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3C3-086D-42A8-AFA9-9CF76DF4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E80-C020-4C14-9AA5-4124A092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256-B9FD-419A-83C3-2EC4C817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F6A-E0CA-4BBF-97A4-BC96B533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32D-580B-4F1F-A7B8-841EE1A3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774-9A4E-4C4A-83C6-1E708416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0A6-15DD-46C5-B555-F152F26C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37A-DED8-4B42-AC15-532E11B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5D2-710A-4136-98B4-354EB982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AA7-6588-4CBD-9981-EDACB43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65B-4B07-43D6-943A-EDCDC4F4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6A3-D652-4D36-A883-9D65F23C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C91B-5D14-4EF9-88A2-9B428E3A7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ower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2895480" y="56386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ain St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624560" cy="4624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048120" y="5486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corn Chic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2133720" y="50976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666880" y="54864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terf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516120" y="54100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M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124080" y="53341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llyf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2309760" y="228600"/>
            <a:ext cx="4776840" cy="4776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62320" y="50292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Bu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5" descr=""/>
          <p:cNvPicPr/>
          <p:nvPr/>
        </p:nvPicPr>
        <p:blipFill>
          <a:blip r:embed="rId1"/>
          <a:stretch/>
        </p:blipFill>
        <p:spPr>
          <a:xfrm>
            <a:off x="2308320" y="380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743200" y="5257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2309760" y="457200"/>
            <a:ext cx="4548240" cy="4548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2895480" y="5486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marine Sandwh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286000" y="50976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666880" y="54864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ck Fli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2309760" y="457200"/>
            <a:ext cx="4929120" cy="4929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276720" y="56386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wl Pl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286000" y="585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505320" y="57913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y o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454120" y="738360"/>
            <a:ext cx="4098960" cy="4100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505320" y="5181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llow F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22:47:12Z</dcterms:created>
  <dc:creator>Meredith</dc:creator>
  <dc:description/>
  <dc:language>en-US</dc:language>
  <cp:lastModifiedBy>kjcrumd</cp:lastModifiedBy>
  <dcterms:modified xsi:type="dcterms:W3CDTF">2010-11-16T16:25:33Z</dcterms:modified>
  <cp:revision>2</cp:revision>
  <dc:subject/>
  <dc:title>PowerPoint Presentation</dc:title>
</cp:coreProperties>
</file>